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7A0-A2AF-41A3-B643-D1DE60C2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03C-DC4E-46C1-AA74-C59B7B6A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CF6-D29D-4991-A09A-8FE66ABE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276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128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2720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276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370-9442-46DF-8228-50FB98C7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332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6FD-82C8-486A-BDF6-3E0C80E2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2720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2760" y="144792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0128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2720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2760" y="3995280"/>
            <a:ext cx="2595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E12-E936-44B5-98F0-D9F6D37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3A5-483A-435C-BE43-CCF122EF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131-7916-4BF4-82E4-39857A28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3329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942-A030-42BB-A5CC-29208D8C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A34-5105-41B1-8D5D-9F6E34F1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1920" y="399528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22D-DD0E-4BEA-92D5-FF5FC69E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1920" y="1447920"/>
            <a:ext cx="3933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01280" y="3995280"/>
            <a:ext cx="8061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05B-E134-46E2-81A5-2E4AD705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332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440" y="6476760"/>
            <a:ext cx="23986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5120" y="6476760"/>
            <a:ext cx="39402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4760" y="6476760"/>
            <a:ext cx="17096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E1F5-A24D-4A7A-BFA6-2C63EF479380}" type="slidenum">
              <a:rPr b="0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0773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85840" y="6411960"/>
            <a:ext cx="301680" cy="3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1219320"/>
            <a:ext cx="2363760" cy="396216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3120" y="2895480"/>
            <a:ext cx="6604200" cy="3200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9400" y="1582200"/>
            <a:ext cx="76788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rasia.fdi.ucm.es/" TargetMode="External"/><Relationship Id="rId2" Type="http://schemas.openxmlformats.org/officeDocument/2006/relationships/hyperlink" Target="http://grasia.fdi.ucm.es/" TargetMode="External"/><Relationship Id="rId3" Type="http://schemas.openxmlformats.org/officeDocument/2006/relationships/hyperlink" Target="http://grasia.fdi.ucm.es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asia.fdi.ucm.es/ingenias/metamode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965240" y="2860560"/>
            <a:ext cx="64929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Grupo de Agentes Software: Ingeniería y Aplicacion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</a:t>
            </a: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://</a:t>
            </a:r>
            <a:r>
              <a:rPr b="0" lang="es-ES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grasia.fdi.ucm.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Juan Pavón, Jorge J. Gómez Sanz </a:t>
            </a: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jpavon, jjgomez@sip.ucm.e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085840" y="4765680"/>
            <a:ext cx="6324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Dep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.</a:t>
            </a: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Sistemas Informáticos y Progra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Facultad</a:t>
            </a: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 de Informá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Verdana"/>
              </a:rPr>
              <a:t>Universidad Complutense de Mad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79400" y="1947600"/>
            <a:ext cx="767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3366"/>
                </a:solidFill>
                <a:latin typeface="Verdana"/>
              </a:rPr>
              <a:t>INGENIAS Meta-model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380360" y="692280"/>
            <a:ext cx="866880" cy="952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7239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92920"/>
            <a:ext cx="833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INGENIAS Meta-model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01280" y="1447560"/>
            <a:ext cx="8061480" cy="37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t defines the elements available for modelling in the INGENIAS Development Kit (ID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rrent version of the meta-mode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ckage structure to organize its cont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loser to MO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11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It is not clear what means MOF-compliant today. XMI is not enoug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34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Highlights the importance of having diagrams as first class citize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1270080" y="5524560"/>
            <a:ext cx="6842160" cy="501480"/>
          </a:xfrm>
          <a:custGeom>
            <a:avLst/>
            <a:gdLst>
              <a:gd name="textAreaLeft" fmla="*/ 32400 w 6842160"/>
              <a:gd name="textAreaRight" fmla="*/ 6809760 w 6842160"/>
              <a:gd name="textAreaTop" fmla="*/ 32400 h 501480"/>
              <a:gd name="textAreaBottom" fmla="*/ 469080 h 501480"/>
            </a:gdLst>
            <a:ahLst/>
            <a:rect l="textAreaLeft" t="textAreaTop" r="textAreaRight" b="textAreaBottom"/>
            <a:pathLst>
              <a:path w="294513" h="21600">
                <a:moveTo>
                  <a:pt x="0" y="0"/>
                </a:moveTo>
                <a:lnTo>
                  <a:pt x="294513" y="0"/>
                </a:lnTo>
                <a:lnTo>
                  <a:pt x="294513" y="21600"/>
                </a:lnTo>
                <a:lnTo>
                  <a:pt x="0" y="21600"/>
                </a:lnTo>
                <a:close/>
              </a:path>
              <a:path fill="lightenLess" w="294513" h="21600">
                <a:moveTo>
                  <a:pt x="0" y="0"/>
                </a:moveTo>
                <a:lnTo>
                  <a:pt x="294513" y="0"/>
                </a:lnTo>
                <a:lnTo>
                  <a:pt x="293113" y="1400"/>
                </a:lnTo>
                <a:lnTo>
                  <a:pt x="1400" y="1400"/>
                </a:lnTo>
                <a:close/>
              </a:path>
              <a:path fill="darken" w="294513" h="21600">
                <a:moveTo>
                  <a:pt x="294513" y="0"/>
                </a:moveTo>
                <a:lnTo>
                  <a:pt x="294513" y="21600"/>
                </a:lnTo>
                <a:lnTo>
                  <a:pt x="293113" y="20200"/>
                </a:lnTo>
                <a:lnTo>
                  <a:pt x="293113" y="1400"/>
                </a:lnTo>
                <a:close/>
              </a:path>
              <a:path fill="darkenLess" w="294513" h="21600">
                <a:moveTo>
                  <a:pt x="29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113" y="20200"/>
                </a:lnTo>
                <a:close/>
              </a:path>
              <a:path fill="lighten" w="29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13" h="21600">
                <a:moveTo>
                  <a:pt x="140250" y="3794"/>
                </a:moveTo>
                <a:lnTo>
                  <a:pt x="154263" y="10800"/>
                </a:lnTo>
                <a:lnTo>
                  <a:pt x="140250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FE6-DBD0-4558-A0E8-08AB1F5CE0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Starting poi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meta-model is not suitable as programming language: it is semi-for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t can be made formal (non ambiguo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reate a visual programming languag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will it be better with such language than with a conventional programming languag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ftware engineering says that successul modelling languages are ambigu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t can be applied in a wider range of domai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nalysts can model with more freed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t requires an extra effort in explaining to readers what a concrete model is intented to me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47F-BD3F-4E46-8961-1ABD187073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Challenges in developing a meta-model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sting the meta-model with different domai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oing it at high-level / platform independ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eful for both researchers  and develo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2D7-4756-4DFB-8099-54B88E9604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54120"/>
            <a:ext cx="833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Our approach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1280" y="1447920"/>
            <a:ext cx="806148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sting, testing, tes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Keep the meta-model simple, with few high level conce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xtending the metamodel first with specialization and then with aggre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ovide tools for using the meta-models: ID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de generation facilities that implement the semantics that the developer requ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ols that help to customize code generation 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268800" y="5087880"/>
            <a:ext cx="2579400" cy="898560"/>
          </a:xfrm>
          <a:custGeom>
            <a:avLst/>
            <a:gdLst>
              <a:gd name="textAreaLeft" fmla="*/ 57960 w 2579400"/>
              <a:gd name="textAreaRight" fmla="*/ 2521440 w 25794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61989" h="21600">
                <a:moveTo>
                  <a:pt x="0" y="0"/>
                </a:moveTo>
                <a:lnTo>
                  <a:pt x="61989" y="0"/>
                </a:lnTo>
                <a:lnTo>
                  <a:pt x="61989" y="21600"/>
                </a:lnTo>
                <a:lnTo>
                  <a:pt x="0" y="21600"/>
                </a:lnTo>
                <a:close/>
              </a:path>
              <a:path fill="lightenLess" w="61989" h="21600">
                <a:moveTo>
                  <a:pt x="0" y="0"/>
                </a:moveTo>
                <a:lnTo>
                  <a:pt x="61989" y="0"/>
                </a:lnTo>
                <a:lnTo>
                  <a:pt x="60589" y="1400"/>
                </a:lnTo>
                <a:lnTo>
                  <a:pt x="1400" y="1400"/>
                </a:lnTo>
                <a:close/>
              </a:path>
              <a:path fill="darken" w="61989" h="21600">
                <a:moveTo>
                  <a:pt x="61989" y="0"/>
                </a:moveTo>
                <a:lnTo>
                  <a:pt x="61989" y="21600"/>
                </a:lnTo>
                <a:lnTo>
                  <a:pt x="60589" y="20200"/>
                </a:lnTo>
                <a:lnTo>
                  <a:pt x="60589" y="1400"/>
                </a:lnTo>
                <a:close/>
              </a:path>
              <a:path fill="darkenLess" w="61989" h="21600">
                <a:moveTo>
                  <a:pt x="61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589" y="20200"/>
                </a:lnTo>
                <a:close/>
              </a:path>
              <a:path fill="lighten" w="61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989" h="21600">
                <a:moveTo>
                  <a:pt x="23988" y="3794"/>
                </a:moveTo>
                <a:lnTo>
                  <a:pt x="38001" y="10800"/>
                </a:lnTo>
                <a:lnTo>
                  <a:pt x="23988" y="1780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grasia.fdi.ucm.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22B-71B7-44C9-8E6B-76DC8FF5E0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rasia!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3:28:15Z</dcterms:created>
  <dc:creator>Juan Pavón Mestras</dc:creator>
  <dc:description/>
  <dc:language>en-US</dc:language>
  <cp:lastModifiedBy>JPM</cp:lastModifiedBy>
  <dcterms:modified xsi:type="dcterms:W3CDTF">2005-02-24T14:43:58Z</dcterms:modified>
  <cp:revision>20</cp:revision>
  <dc:subject/>
  <dc:title>Valladolid Meeting 18 dec. 2002</dc:title>
</cp:coreProperties>
</file>