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7DB3-CC5B-4997-A358-67B012DD14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am Luca Sabatucci from the University of Paler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will present th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SSI and Agile PASSI MAS meta-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MAS Meta Model obtained for Agile PAS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possible to observe that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ag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ole element exists no more: an agent now is directly composed by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seen how the PASSI and Agile PASSI MAS Meta Models are splitted in three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addresses user’s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cy Domain addresses agency based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 Domain addresses code leve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also observed that the Agile PASSI MMM is a subset of the PASSI MMM but some elements are defined in a different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presentation we discuss about: the structure of PASSI MAS Meta-Model, the elements of PASSI and Agile PASSI MAS Meta-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PASSI MAS Meta-Model addresses three logical areas that we have named Problem, Agency and Solution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deals with the user's problem referring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enari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quire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ntology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Domain describes the structure of the code solution in the chosen FIPA-compliant implementation platform. We use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Ag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PASSI MAS Meta-Model. The three differe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re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presents the three dom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we can aspect there is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rease of abstra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oing from the problem to the solution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following slides we will analyze these domain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the Problem Domain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esents a feature of the system. it may be functional (like a service) or non-functional (like a performance constra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feature of PASSI process is th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composed by concepts, actions and predic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of the system doma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operations that it is possible to perform to change the state of concep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dicat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ion about the state of certain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of the system that can be acquired, shared, or manipulated by the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. None of these is direct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SSI 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responsible for accomplishing some functionalities. It lives in an environment. It is capable to perform some actions and to participate in collaborations with oth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gent, during its life, plays some roles.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portion of its social behaviour. While playing a role, an agent activates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s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roduce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participate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der to reach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core unit for agent behavior. It is an aggregation of atomic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ty that an agent offer to the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opted in PASSI use a FIPA-compliant struc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ASSI agent and task have a correspondent element in the solution domain.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agen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class that implements the agent element, while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task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the class that implements the task of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PASSI has been obtain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u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me parts of the PASSI process. We have created it in according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gile Princi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easy to use and it is code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build Agile PASSI we started from PASSI MAS Meta Model. In this model we have reduced the number of elements according to Agile Principl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moved terms as Scenario, Resource, Roles... in order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w MAS Meta Model we have maintained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quire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are the base for agents identification. Besides, we have not changed the fundamental role of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FD0-C898-4823-ABED-E418B654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5B6-5E12-4879-866D-117946E9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7C5-8657-41A4-90AB-E3807749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DEE-120B-44DC-A715-464E9744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289A-BFB1-4DCA-86F6-D0D3AE7B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935-63D6-4273-B6A4-6AE35953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848-646A-4A3A-940A-4FA63A69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9B0F-81B4-4311-B1AF-F35E7C32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5D24-4C55-4A8D-B23C-BCD3A4D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18B4-0F28-44F4-9C05-FBAFA069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6B47-C304-4451-9F65-8265E36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BD3-E944-4257-8D9F-FB12C8C1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58D6-5F46-4568-83FC-48DDC73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9E89-75C4-4BF1-BFA0-1211F3A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026-0B3B-4985-AA64-307D9834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AB24-1079-4645-B73B-6B4B47D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705-B299-4B81-AFCF-422E23BB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C4B-98DE-497D-81E3-F6428900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AFF-1DC9-4276-A98E-9FAF3F94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778-AAFE-4871-8F77-E1A0C05D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86D-AAD2-40D5-A425-81E9A452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503-8F62-455C-B3B9-62B51B73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CEA-2AEB-4BEB-9B1B-5C996109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636-FCED-42F7-9A96-F0351C6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35B-EFC1-4D99-810B-D49462BF4764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3536-795B-4EA0-98E9-8167DD09B18A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ASSI and Agile PASSI 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MAS meta-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1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. Chell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M. Cossentino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L. Sabatucc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V. Seidit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" y="4149720"/>
            <a:ext cx="8272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Dipartimento di Ingegneria Informatica (DINFO) - University of Palermo –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Istituto di Calcolo e Reti ad Alte Prestazioni (ICAR) Consiglio Nazionale delle Ricerche (CNR) – 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9334" t="0" r="35553" b="22028"/>
          <a:stretch/>
        </p:blipFill>
        <p:spPr>
          <a:xfrm>
            <a:off x="7020000" y="192240"/>
            <a:ext cx="1584360" cy="153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54120" b="0"/>
          <a:stretch/>
        </p:blipFill>
        <p:spPr>
          <a:xfrm>
            <a:off x="360360" y="115920"/>
            <a:ext cx="29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1000"/>
            <a:ext cx="896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4005360"/>
            <a:ext cx="7416720" cy="26985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87640"/>
            <a:ext cx="7416720" cy="2205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320" y="1008000"/>
            <a:ext cx="7419960" cy="10843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062000"/>
          <a:ext cx="8142120" cy="55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2000"/>
                    <a:ext cx="8142120" cy="55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164360" y="69228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Resulting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3933720"/>
            <a:ext cx="2089440" cy="1297080"/>
          </a:xfrm>
          <a:prstGeom prst="wedgeRectCallout">
            <a:avLst>
              <a:gd name="adj1" fmla="val 38069"/>
              <a:gd name="adj2" fmla="val -102263"/>
            </a:avLst>
          </a:prstGeom>
          <a:solidFill>
            <a:srgbClr val="00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the new MMM the agent is designed in a semplified way, without defining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2205000"/>
            <a:ext cx="352908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SSI and AgilePASSI MMMs are splitted in three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PASSI MMM is a subset of PASSI MM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me elements are defined in a simplified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4360" y="3213000"/>
          <a:ext cx="8065800" cy="1847880"/>
        </p:xfrm>
        <a:graphic>
          <a:graphicData uri="http://schemas.openxmlformats.org/drawingml/2006/table">
            <a:tbl>
              <a:tblPr/>
              <a:tblGrid>
                <a:gridCol w="3241080"/>
                <a:gridCol w="935280"/>
                <a:gridCol w="3889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cy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 based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 level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(MMM)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Agile PASSI MAS Meta-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PASSI MMM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2060640"/>
            <a:ext cx="66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PASSI MAS Meta-Model addresses three logical ar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875640" y="4581360"/>
            <a:ext cx="2017440" cy="938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421000"/>
            <a:ext cx="2017800" cy="9381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500280"/>
            <a:ext cx="2017800" cy="938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PASSI MMM el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826920"/>
          <a:ext cx="8637480" cy="59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26920"/>
                    <a:ext cx="86374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3571560"/>
            <a:ext cx="83883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-1440"/>
          <a:ext cx="914400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98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645000"/>
            <a:ext cx="5113440" cy="1655640"/>
          </a:xfrm>
          <a:prstGeom prst="wedgeRectCallout">
            <a:avLst>
              <a:gd name="adj1" fmla="val -73625"/>
              <a:gd name="adj2" fmla="val -5642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presents a feature that the system to be must exhibit, it can be a functional requirement (like a service) or a non-functional requirement (such as a constraint on the system perform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05360"/>
            <a:ext cx="4788000" cy="2448000"/>
          </a:xfrm>
          <a:prstGeom prst="wedgeRectCallout">
            <a:avLst>
              <a:gd name="adj1" fmla="val 89722"/>
              <a:gd name="adj2" fmla="val -65629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oncept, action and pred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ontology is an explicit specification of the structure of the Problem domain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entities and categories of the domain; the status of concepts is changed b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rformed in the domain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at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rt something about a portion of the domain element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637000"/>
            <a:ext cx="25927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985680"/>
            <a:ext cx="1216080" cy="258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6028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076640"/>
            <a:ext cx="2917800" cy="1368360"/>
          </a:xfrm>
          <a:prstGeom prst="wedgeRectCallout">
            <a:avLst>
              <a:gd name="adj1" fmla="val -34546"/>
              <a:gd name="adj2" fmla="val -8688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source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ncrete, tangible entity that can be acquired, shared, or produced b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37000"/>
            <a:ext cx="10429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3211560"/>
            <a:ext cx="8388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549360"/>
          <a:ext cx="87138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49360"/>
                    <a:ext cx="87138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79280" y="0"/>
            <a:ext cx="16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284640"/>
            <a:ext cx="2089080" cy="3168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0" y="476280"/>
            <a:ext cx="116208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76280"/>
            <a:ext cx="1441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76280"/>
            <a:ext cx="1225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00280"/>
            <a:ext cx="1224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1773360"/>
            <a:ext cx="201636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924280"/>
            <a:ext cx="8064360" cy="3673440"/>
          </a:xfrm>
          <a:prstGeom prst="wedgeRectCallout">
            <a:avLst>
              <a:gd name="adj1" fmla="val -49902"/>
              <a:gd name="adj2" fmla="val -9057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utonomous entity capable of pursuing an objective through its autonomous decisions, actions and social relationships. More in details, an Agent is an entity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capable of actions in an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 communicate directly with other ag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driven by a set of functionalities it has to accomplis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esses resources of its ow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apable of perceiving its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s only a partial representation of this environment (knowled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offer servi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lay several different ro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2492280"/>
            <a:ext cx="4032360" cy="2016360"/>
          </a:xfrm>
          <a:prstGeom prst="wedgeRectCallout">
            <a:avLst>
              <a:gd name="adj1" fmla="val -22087"/>
              <a:gd name="adj2" fmla="val -101416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agent during its life plays some roles.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ro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ortion of the social behaviour of an agent that is characterized by a goal (accomplishing some specific functionality) and/or provides a ser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492280"/>
            <a:ext cx="4824360" cy="2087640"/>
          </a:xfrm>
          <a:prstGeom prst="wedgeRectCallout">
            <a:avLst>
              <a:gd name="adj1" fmla="val -39041"/>
              <a:gd name="adj2" fmla="val -102777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pecifies the computation that generates the effects of the behavioural feature. Its granularity addresses the significance of a non decomposable group of atomic actions. These cannot be directly addressed without referring to their belonging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500280"/>
            <a:ext cx="2449800" cy="1584360"/>
          </a:xfrm>
          <a:prstGeom prst="wedgeRectCallout">
            <a:avLst>
              <a:gd name="adj1" fmla="val -36064"/>
              <a:gd name="adj2" fmla="val -95893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when playing a role, an agent may provide a functionality/service to other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00280"/>
            <a:ext cx="2592360" cy="1152720"/>
          </a:xfrm>
          <a:prstGeom prst="wedgeRectCallout">
            <a:avLst>
              <a:gd name="adj1" fmla="val -36833"/>
              <a:gd name="adj2" fmla="val -113083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adopts a FIPA-compliant structure f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2920" y="109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476280"/>
          <a:ext cx="91440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588000" y="170028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99736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Agent cla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Task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2592360" cy="1368720"/>
          </a:xfrm>
          <a:prstGeom prst="wedgeRectCallout">
            <a:avLst>
              <a:gd name="adj1" fmla="val -38856"/>
              <a:gd name="adj2" fmla="val -105337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Agent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1989000"/>
            <a:ext cx="2448000" cy="1368720"/>
          </a:xfrm>
          <a:prstGeom prst="wedgeRectCallout">
            <a:avLst>
              <a:gd name="adj1" fmla="val -30481"/>
              <a:gd name="adj2" fmla="val -95361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Task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ile PASSI Desig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derives from P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an agil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de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composed by reusing parts of existing processes (method fragment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hod engineering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 methodologies principles and tec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From PASSI MMM to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831960"/>
          <a:ext cx="91803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1960"/>
                    <a:ext cx="91803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87640" y="4724280"/>
            <a:ext cx="936720" cy="649440"/>
            <a:chOff x="2987640" y="4724280"/>
            <a:chExt cx="936720" cy="649440"/>
          </a:xfrm>
        </p:grpSpPr>
        <p:sp>
          <p:nvSpPr>
            <p:cNvPr id="164" name=""/>
            <p:cNvSpPr/>
            <p:nvPr/>
          </p:nvSpPr>
          <p:spPr>
            <a:xfrm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58920" y="5949720"/>
            <a:ext cx="900000" cy="719280"/>
            <a:chOff x="1258920" y="5949720"/>
            <a:chExt cx="900000" cy="719280"/>
          </a:xfrm>
        </p:grpSpPr>
        <p:sp>
          <p:nvSpPr>
            <p:cNvPr id="167" name=""/>
            <p:cNvSpPr/>
            <p:nvPr/>
          </p:nvSpPr>
          <p:spPr>
            <a:xfrm>
              <a:off x="1258920" y="595008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58920" y="594972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3500280"/>
            <a:ext cx="936720" cy="649440"/>
            <a:chOff x="2843280" y="3500280"/>
            <a:chExt cx="936720" cy="649440"/>
          </a:xfrm>
        </p:grpSpPr>
        <p:sp>
          <p:nvSpPr>
            <p:cNvPr id="170" name=""/>
            <p:cNvSpPr/>
            <p:nvPr/>
          </p:nvSpPr>
          <p:spPr>
            <a:xfrm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5280" y="2422440"/>
            <a:ext cx="1008000" cy="719280"/>
            <a:chOff x="3635280" y="2422440"/>
            <a:chExt cx="1008000" cy="719280"/>
          </a:xfrm>
        </p:grpSpPr>
        <p:sp>
          <p:nvSpPr>
            <p:cNvPr id="173" name=""/>
            <p:cNvSpPr/>
            <p:nvPr/>
          </p:nvSpPr>
          <p:spPr>
            <a:xfrm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59640" y="2492280"/>
            <a:ext cx="865080" cy="649440"/>
            <a:chOff x="6659640" y="2492280"/>
            <a:chExt cx="865080" cy="649440"/>
          </a:xfrm>
        </p:grpSpPr>
        <p:sp>
          <p:nvSpPr>
            <p:cNvPr id="176" name=""/>
            <p:cNvSpPr/>
            <p:nvPr/>
          </p:nvSpPr>
          <p:spPr>
            <a:xfrm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360" y="2997360"/>
            <a:ext cx="2303640" cy="2952720"/>
          </a:xfrm>
          <a:prstGeom prst="wedgeRectCallout">
            <a:avLst>
              <a:gd name="adj1" fmla="val 36078"/>
              <a:gd name="adj2" fmla="val -1236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ccording to the Agile Alliance principles, scenarios are replaced by user stories (described in an informal wa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order to shorten the design process we decided to bypass roles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11:35Z</dcterms:created>
  <dc:creator>LuKa</dc:creator>
  <dc:description/>
  <cp:keywords/>
  <dc:language>en-US</dc:language>
  <cp:lastModifiedBy>LuKa</cp:lastModifiedBy>
  <dcterms:modified xsi:type="dcterms:W3CDTF">2005-02-25T17:13:23Z</dcterms:modified>
  <cp:revision>30</cp:revision>
  <dc:subject/>
  <dc:title>PASSI and Agile PASS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0</vt:lpwstr>
  </property>
</Properties>
</file>