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9417-3A3E-4401-A7EA-F986AEBE93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am Luca Sabatucci from the University of Paler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will present th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SSI and Agile PASSI MAS meta-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ult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MAS Meta Model obtained for Agile PASS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possible to observe that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 of age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ole element exists no more: an agent now is directly composed by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ve seen how the PASSI and Agile PASSI MAS Meta Models are splitted in three do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lem Domain addresses user’s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cy Domain addresses agency based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ution Domain addresses code leve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ve also observed that the Agile PASSI MMM is a subset of the PASSI MMM but some elements are defined in a different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presentation we discuss about: the structure of PASSI MAS Meta-Model, the elements of PASSI and Agile PASSI MAS Meta-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tructure of the PASSI MAS Meta-Model addresses three logical areas that we have named Problem, Agency and Solution do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lem Domain deals with the user's problem referring term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enari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quirem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ntology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ncy Domain contains the components of the agent-base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Domain describes the structure of the code solution in the chosen FIPA-compliant implementation platform. We use term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A-Platform Ag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A-Platform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we have an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the PASSI MAS Meta-Model. The three differe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rea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presents the three dom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we can aspect there is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crease of abstra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going from the problem to the solution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following slides we will analyze these domains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we have the Problem Domain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presents a feature of the system. it may be functional (like a service) or non-functional (like a performance constra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feature of PASSI process is th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nt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t is composed by concepts, actions and predic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entity of the system doma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the operations that it is possible to perform to change the state of concep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dicat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rtion about the state of certain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of the system that can be acquired, shared, or manipulated by the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Agency Domain contains the components of the agent-based solution. None of these is direct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ASSI a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entity responsible for accomplishing some functionalities. It lives in an environment. It is capable to perform some actions and to participate in collaborations with other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gent, during its life, plays some roles. 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r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portion of its social behaviour. While playing a role, an agent activates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s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roduce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participate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order to reach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core unit for agent behavior. It is an aggregation of atomic 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i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ty that an agent offer to the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dopted in PASSI use a FIPA-compliant structu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ASSI agent and task have a correspondent element in the solution domain. Th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PA platform agen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class that implements the agent element, while th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PA platform task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the class that implements the task of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ile PASSI has been obtain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u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me parts of the PASSI process. We have created it in according to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gile Princi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t is easy to use and it is code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build Agile PASSI we started from PASSI MAS Meta Model. In this model we have reduced the number of elements according to Agile Principl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moved terms as Scenario, Resource, Roles... in order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ort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ew MAS Meta Model we have maintained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quirem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are the base for agents identification. Besides, we have not changed the fundamental role of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950-CD07-475D-B7FB-42D47DCD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C04-977E-4F64-BE87-A7C38365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33A-8CD1-44ED-A24D-EDCA0EA4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05C-D48B-490B-BF84-012F8F02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A50-90D6-4C69-8A37-33C51527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B811-741F-46F1-9801-00995BD4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5C06-7646-49E6-80AB-7E661687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B72F-620F-4F2A-99C3-6FF5C609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598E-69A8-47FD-986C-EBDB46C5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684B-7C4F-49A1-B8FC-C8F99C5A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CDE8-6459-4DD5-8E11-DE7E2B39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7FB-E901-4820-8F05-E29036C6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06B4-4886-4A13-B212-CF27EEAF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02A0-F0ED-4C9D-BE8D-558793DC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77AE-E836-4DC5-B02C-320E2D6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EB35-73B9-4D1A-B1DC-37553082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8B6C-EA3F-4867-9901-80D48DA3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090-546E-4DA3-8170-9128EDC6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5C7-FC2B-4ADD-9353-FB84EBAD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3B9-2B26-40A7-8268-436582BE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2DD-66D3-4DA3-B850-0A955D09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F5A-FA36-4B70-84B1-0FA57139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8C3-866D-4EC6-ABF9-8BB4FC3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3E4-F14A-4E09-BB0B-E191A809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E7B-AF13-40CD-BBBA-6C1EB9F1824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3589-222A-4CFA-A6CA-A155441BE92E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ASSI and Agile PASSI 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MAS meta-mode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1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. Chell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M. Cossentino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L. Sabatucci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V. Seidit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03200" y="4149720"/>
            <a:ext cx="8272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Dipartimento di Ingegneria Informatica (DINFO) - University of Palermo –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alermo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Istituto di Calcolo e Reti ad Alte Prestazioni (ICAR) Consiglio Nazionale delle Ricerche (CNR) – Palermo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49334" t="0" r="35553" b="22028"/>
          <a:stretch/>
        </p:blipFill>
        <p:spPr>
          <a:xfrm>
            <a:off x="7020000" y="192240"/>
            <a:ext cx="1584360" cy="1535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54120" b="0"/>
          <a:stretch/>
        </p:blipFill>
        <p:spPr>
          <a:xfrm>
            <a:off x="360360" y="115920"/>
            <a:ext cx="2916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981000"/>
            <a:ext cx="8964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4005360"/>
            <a:ext cx="7416720" cy="269856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087640"/>
            <a:ext cx="7416720" cy="2205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320" y="1008000"/>
            <a:ext cx="7419960" cy="108432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1062000"/>
          <a:ext cx="8142120" cy="55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2000"/>
                    <a:ext cx="8142120" cy="55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7164360" y="69228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8259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The Resulting Agile PASSI MM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3933720"/>
            <a:ext cx="2089440" cy="1297080"/>
          </a:xfrm>
          <a:prstGeom prst="wedgeRectCallout">
            <a:avLst>
              <a:gd name="adj1" fmla="val 38069"/>
              <a:gd name="adj2" fmla="val -102263"/>
            </a:avLst>
          </a:prstGeom>
          <a:solidFill>
            <a:srgbClr val="00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n the new MMM the agent is designed in a semplified way, without defining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2205000"/>
            <a:ext cx="352908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ASSI and AgilePASSI MMMs are splitted in three are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ilePASSI MMM is a subset of PASSI MM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me elements are defined in a simplified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4360" y="3213000"/>
          <a:ext cx="8065800" cy="1847880"/>
        </p:xfrm>
        <a:graphic>
          <a:graphicData uri="http://schemas.openxmlformats.org/drawingml/2006/table">
            <a:tbl>
              <a:tblPr/>
              <a:tblGrid>
                <a:gridCol w="3241080"/>
                <a:gridCol w="935280"/>
                <a:gridCol w="38894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’s 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cy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 based 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de level 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PASSI MAS Meta-Model (MMM)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PASSI MAS Meta-Model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Agile PASSI MAS Meta-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he PASSI MMM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2060640"/>
            <a:ext cx="6696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ructure of the PASSI MAS Meta-Model addresses three logical ar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Domain deals with the user's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gency Domain contains the components of the agent-based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lution Domain describes the structure of the code solution in the chosen FIPA-compliant implementation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875640" y="4581360"/>
            <a:ext cx="2017440" cy="938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2421000"/>
            <a:ext cx="2017800" cy="93816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500280"/>
            <a:ext cx="2017800" cy="938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The PASSI MMM ele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826920"/>
          <a:ext cx="8637480" cy="59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26920"/>
                    <a:ext cx="86374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blem Dom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3571560"/>
            <a:ext cx="83883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omain deals with the user's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tology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-1440"/>
          <a:ext cx="9144000" cy="35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35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98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645000"/>
            <a:ext cx="5113440" cy="1655640"/>
          </a:xfrm>
          <a:prstGeom prst="wedgeRectCallout">
            <a:avLst>
              <a:gd name="adj1" fmla="val -73625"/>
              <a:gd name="adj2" fmla="val -56425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quire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presents a feature that the system to be must exhibit, it can be a functional requirement (like a service) or a non-functional requirement (such as a constraint on the system perform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005360"/>
            <a:ext cx="4788000" cy="2448000"/>
          </a:xfrm>
          <a:prstGeom prst="wedgeRectCallout">
            <a:avLst>
              <a:gd name="adj1" fmla="val 89722"/>
              <a:gd name="adj2" fmla="val -65629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tolog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oncept, action and predic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I ontology is an explicit specification of the structure of the Problem domain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cep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entities and categories of the domain; the status of concepts is changed b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rformed in the domain;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dicate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rt something about a portion of the domain element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637000"/>
            <a:ext cx="2592720" cy="93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1160" y="985680"/>
            <a:ext cx="1216080" cy="2587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26028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076640"/>
            <a:ext cx="2917800" cy="1368360"/>
          </a:xfrm>
          <a:prstGeom prst="wedgeRectCallout">
            <a:avLst>
              <a:gd name="adj1" fmla="val -34546"/>
              <a:gd name="adj2" fmla="val -86888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Resource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concrete, tangible entity that can be acquired, shared, or produced by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37000"/>
            <a:ext cx="1042920" cy="93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3211560"/>
            <a:ext cx="8388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gency Domain contains the components of the agent-ba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sk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549360"/>
          <a:ext cx="871380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549360"/>
                    <a:ext cx="87138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79280" y="0"/>
            <a:ext cx="16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284640"/>
            <a:ext cx="2089080" cy="31687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00" y="476280"/>
            <a:ext cx="116208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76280"/>
            <a:ext cx="144144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76280"/>
            <a:ext cx="122544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700280"/>
            <a:ext cx="122400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1773360"/>
            <a:ext cx="201636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924280"/>
            <a:ext cx="8064360" cy="3673440"/>
          </a:xfrm>
          <a:prstGeom prst="wedgeRectCallout">
            <a:avLst>
              <a:gd name="adj1" fmla="val -49902"/>
              <a:gd name="adj2" fmla="val -9057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autonomous entity capable of pursuing an objective through its autonomous decisions, actions and social relationships. More in details, an Agent is an entity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capable of actions in an environ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 communicate directly with other ag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driven by a set of functionalities it has to accomplis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esses resources of its ow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apable of perceiving its environ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s only a partial representation of this environment (knowled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offer servic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lay several different ro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2492280"/>
            <a:ext cx="4032360" cy="2016360"/>
          </a:xfrm>
          <a:prstGeom prst="wedgeRectCallout">
            <a:avLst>
              <a:gd name="adj1" fmla="val -22087"/>
              <a:gd name="adj2" fmla="val -101416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agent during its life plays some roles.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ro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portion of the social behaviour of an agent that is characterized by a goal (accomplishing some specific functionality) and/or provides a serv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492280"/>
            <a:ext cx="4824360" cy="2087640"/>
          </a:xfrm>
          <a:prstGeom prst="wedgeRectCallout">
            <a:avLst>
              <a:gd name="adj1" fmla="val -39041"/>
              <a:gd name="adj2" fmla="val -102777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s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pecifies the computation that generates the effects of the behavioural feature. Its granularity addresses the significance of a non decomposable group of atomic actions. These cannot be directly addressed without referring to their belonging t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500280"/>
            <a:ext cx="2449800" cy="1584360"/>
          </a:xfrm>
          <a:prstGeom prst="wedgeRectCallout">
            <a:avLst>
              <a:gd name="adj1" fmla="val -36064"/>
              <a:gd name="adj2" fmla="val -95893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when playing a role, an agent may provide a functionality/service to other ag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500280"/>
            <a:ext cx="2592360" cy="1152720"/>
          </a:xfrm>
          <a:prstGeom prst="wedgeRectCallout">
            <a:avLst>
              <a:gd name="adj1" fmla="val -36833"/>
              <a:gd name="adj2" fmla="val -113083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I adopts a FIPA-compliant structure fo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commun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2920" y="109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476280"/>
          <a:ext cx="91440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588000" y="1700280"/>
            <a:ext cx="20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99736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lution Domain describes the structure of the code solution in the chosen FIPA-compliant implementation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PA Agent class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PA Task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1989000"/>
            <a:ext cx="2592360" cy="1368720"/>
          </a:xfrm>
          <a:prstGeom prst="wedgeRectCallout">
            <a:avLst>
              <a:gd name="adj1" fmla="val -38856"/>
              <a:gd name="adj2" fmla="val -105337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ftware class that implements the Agent in the selected (FIPA)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04640"/>
            <a:ext cx="1584360" cy="86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4640"/>
            <a:ext cx="1584360" cy="86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1989000"/>
            <a:ext cx="2448000" cy="1368720"/>
          </a:xfrm>
          <a:prstGeom prst="wedgeRectCallout">
            <a:avLst>
              <a:gd name="adj1" fmla="val -30481"/>
              <a:gd name="adj2" fmla="val -95361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ftware class that implements the Task in the selected (FIPA)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gile PASSI Desig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63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derives from PA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is an agil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de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is composed by reusing parts of existing processes (method fragment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hod engineering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ile methodologies principles and tec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From PASSI MMM to Agile PASSI MM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831960"/>
          <a:ext cx="91803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1960"/>
                    <a:ext cx="91803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2987640" y="4724280"/>
            <a:ext cx="936720" cy="649440"/>
            <a:chOff x="2987640" y="4724280"/>
            <a:chExt cx="936720" cy="649440"/>
          </a:xfrm>
        </p:grpSpPr>
        <p:sp>
          <p:nvSpPr>
            <p:cNvPr id="164" name=""/>
            <p:cNvSpPr/>
            <p:nvPr/>
          </p:nvSpPr>
          <p:spPr>
            <a:xfrm>
              <a:off x="2987640" y="4724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87640" y="4724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58920" y="5949720"/>
            <a:ext cx="900000" cy="719280"/>
            <a:chOff x="1258920" y="5949720"/>
            <a:chExt cx="900000" cy="719280"/>
          </a:xfrm>
        </p:grpSpPr>
        <p:sp>
          <p:nvSpPr>
            <p:cNvPr id="167" name=""/>
            <p:cNvSpPr/>
            <p:nvPr/>
          </p:nvSpPr>
          <p:spPr>
            <a:xfrm>
              <a:off x="1258920" y="5950080"/>
              <a:ext cx="90000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258920" y="5949720"/>
              <a:ext cx="90000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843280" y="3500280"/>
            <a:ext cx="936720" cy="649440"/>
            <a:chOff x="2843280" y="3500280"/>
            <a:chExt cx="936720" cy="649440"/>
          </a:xfrm>
        </p:grpSpPr>
        <p:sp>
          <p:nvSpPr>
            <p:cNvPr id="170" name=""/>
            <p:cNvSpPr/>
            <p:nvPr/>
          </p:nvSpPr>
          <p:spPr>
            <a:xfrm>
              <a:off x="2843280" y="3500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843280" y="3500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35280" y="2422440"/>
            <a:ext cx="1008000" cy="719280"/>
            <a:chOff x="3635280" y="2422440"/>
            <a:chExt cx="1008000" cy="719280"/>
          </a:xfrm>
        </p:grpSpPr>
        <p:sp>
          <p:nvSpPr>
            <p:cNvPr id="173" name=""/>
            <p:cNvSpPr/>
            <p:nvPr/>
          </p:nvSpPr>
          <p:spPr>
            <a:xfrm>
              <a:off x="3635280" y="2422440"/>
              <a:ext cx="100800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35280" y="2422440"/>
              <a:ext cx="100800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59640" y="2492280"/>
            <a:ext cx="865080" cy="649440"/>
            <a:chOff x="6659640" y="2492280"/>
            <a:chExt cx="865080" cy="649440"/>
          </a:xfrm>
        </p:grpSpPr>
        <p:sp>
          <p:nvSpPr>
            <p:cNvPr id="176" name=""/>
            <p:cNvSpPr/>
            <p:nvPr/>
          </p:nvSpPr>
          <p:spPr>
            <a:xfrm>
              <a:off x="6659640" y="2492280"/>
              <a:ext cx="86508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659640" y="2492280"/>
              <a:ext cx="86508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6360" y="2997360"/>
            <a:ext cx="2303640" cy="2952720"/>
          </a:xfrm>
          <a:prstGeom prst="wedgeRectCallout">
            <a:avLst>
              <a:gd name="adj1" fmla="val 36078"/>
              <a:gd name="adj2" fmla="val -12365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ccording to the Agile Alliance principles, scenarios are replaced by user stories (described in an informal wa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order to shorten the design process we decided to bypass roles defin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1:11:35Z</dcterms:created>
  <dc:creator>LuKa</dc:creator>
  <dc:description/>
  <cp:keywords/>
  <dc:language>en-US</dc:language>
  <cp:lastModifiedBy>LuKa</cp:lastModifiedBy>
  <dcterms:modified xsi:type="dcterms:W3CDTF">2005-02-25T17:13:23Z</dcterms:modified>
  <cp:revision>30</cp:revision>
  <dc:subject/>
  <dc:title>PASSI and Agile PASS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0</vt:lpwstr>
  </property>
</Properties>
</file>