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7509-C593-47E9-9A33-5A89EEFB4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2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01280" y="1447920"/>
            <a:ext cx="8061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01280" y="3995280"/>
            <a:ext cx="8061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E578-FC5A-4BCE-9ACA-D1FBE9A34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2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01280" y="1447920"/>
            <a:ext cx="3933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31920" y="1447920"/>
            <a:ext cx="3933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01280" y="3995280"/>
            <a:ext cx="3933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31920" y="3995280"/>
            <a:ext cx="3933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8C92-82E9-490F-8A83-EA6D5E75B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2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01280" y="1447920"/>
            <a:ext cx="2595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27200" y="1447920"/>
            <a:ext cx="2595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52760" y="1447920"/>
            <a:ext cx="2595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01280" y="3995280"/>
            <a:ext cx="2595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27200" y="3995280"/>
            <a:ext cx="2595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52760" y="3995280"/>
            <a:ext cx="2595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721F-A5FB-44B5-8E0C-20054C70D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2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01280" y="1447920"/>
            <a:ext cx="8061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2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01280" y="1447920"/>
            <a:ext cx="8061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2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01280" y="1447920"/>
            <a:ext cx="3933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31920" y="1447920"/>
            <a:ext cx="3933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2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33292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2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01280" y="1447920"/>
            <a:ext cx="3933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1920" y="1447920"/>
            <a:ext cx="3933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01280" y="3995280"/>
            <a:ext cx="3933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2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01280" y="1447920"/>
            <a:ext cx="8061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233F-F8C8-483D-88A4-9838B77EB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2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01280" y="1447920"/>
            <a:ext cx="3933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1920" y="1447920"/>
            <a:ext cx="3933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831920" y="3995280"/>
            <a:ext cx="3933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2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01280" y="1447920"/>
            <a:ext cx="3933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31920" y="1447920"/>
            <a:ext cx="3933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01280" y="3995280"/>
            <a:ext cx="8061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2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01280" y="1447920"/>
            <a:ext cx="8061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01280" y="3995280"/>
            <a:ext cx="8061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2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01280" y="1447920"/>
            <a:ext cx="3933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31920" y="1447920"/>
            <a:ext cx="3933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01280" y="3995280"/>
            <a:ext cx="3933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831920" y="3995280"/>
            <a:ext cx="3933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2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01280" y="1447920"/>
            <a:ext cx="2595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27200" y="1447920"/>
            <a:ext cx="2595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52760" y="1447920"/>
            <a:ext cx="2595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01280" y="3995280"/>
            <a:ext cx="2595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27200" y="3995280"/>
            <a:ext cx="2595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52760" y="3995280"/>
            <a:ext cx="2595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2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01280" y="1447920"/>
            <a:ext cx="8061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53BF-F280-4E8E-B143-66F9A0D73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2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01280" y="1447920"/>
            <a:ext cx="3933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31920" y="1447920"/>
            <a:ext cx="3933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7931-B4EE-40C8-96B2-E407C7CF2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2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EDC0-A01F-4719-B26B-BC95CDEAF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33292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5141-52D6-4F47-9C31-201C6579F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2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01280" y="1447920"/>
            <a:ext cx="3933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31920" y="1447920"/>
            <a:ext cx="3933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01280" y="3995280"/>
            <a:ext cx="3933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B32F-412A-48BF-B091-65888A5B3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2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01280" y="1447920"/>
            <a:ext cx="3933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31920" y="1447920"/>
            <a:ext cx="3933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31920" y="3995280"/>
            <a:ext cx="3933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8603-8EA0-4314-8AB8-5DF96976B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2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01280" y="1447920"/>
            <a:ext cx="3933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31920" y="1447920"/>
            <a:ext cx="3933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01280" y="3995280"/>
            <a:ext cx="8061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F2B0-3A32-43D0-A071-4E6AD4437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2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01280" y="1447920"/>
            <a:ext cx="8061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8440" y="6476760"/>
            <a:ext cx="239868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66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65120" y="6476760"/>
            <a:ext cx="394020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6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14760" y="6476760"/>
            <a:ext cx="170964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DF2DB-B2F9-4189-9ED2-19E019AD0054}" type="slidenum">
              <a:rPr b="0" lang="en-US" sz="1000" spc="-1" strike="noStrike">
                <a:solidFill>
                  <a:srgbClr val="003366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0773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285840" y="6411960"/>
            <a:ext cx="301680" cy="33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1219320"/>
            <a:ext cx="2363760" cy="3962160"/>
          </a:xfrm>
          <a:prstGeom prst="rect">
            <a:avLst/>
          </a:prstGeom>
          <a:solidFill>
            <a:srgbClr val="ffcc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73120" y="2895480"/>
            <a:ext cx="6604200" cy="320040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79400" y="1582200"/>
            <a:ext cx="76788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5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rasia.fdi.ucm.es/" TargetMode="External"/><Relationship Id="rId2" Type="http://schemas.openxmlformats.org/officeDocument/2006/relationships/hyperlink" Target="http://grasia.fdi.ucm.es/" TargetMode="External"/><Relationship Id="rId3" Type="http://schemas.openxmlformats.org/officeDocument/2006/relationships/hyperlink" Target="http://grasia.fdi.ucm.es/" TargetMode="External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grasia.fdi.ucm.es/ingenias/metamodel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965240" y="2860560"/>
            <a:ext cx="649296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3366"/>
                </a:solidFill>
                <a:latin typeface="Verdana"/>
              </a:rPr>
              <a:t>Grupo de Agentes Software: Ingeniería y Aplicacione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</a:t>
            </a:r>
            <a:r>
              <a:rPr b="0" lang="es-ES" sz="2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://</a:t>
            </a:r>
            <a:r>
              <a:rPr b="0" lang="es-ES" sz="20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grasia.fdi.ucm.e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003366"/>
                </a:solidFill>
                <a:latin typeface="Verdana"/>
              </a:rPr>
              <a:t>Juan Pavón, Jorge J. Gómez Sanz </a:t>
            </a:r>
            <a:br>
              <a:rPr sz="2000"/>
            </a:br>
            <a:r>
              <a:rPr b="0" lang="es-ES" sz="2000" spc="-1" strike="noStrike">
                <a:solidFill>
                  <a:srgbClr val="003366"/>
                </a:solidFill>
                <a:latin typeface="Verdana"/>
              </a:rPr>
              <a:t>jpavon, jjgomez@sip.ucm.e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5" name=""/>
          <p:cNvSpPr/>
          <p:nvPr/>
        </p:nvSpPr>
        <p:spPr>
          <a:xfrm>
            <a:off x="2085840" y="4765680"/>
            <a:ext cx="63248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66"/>
                </a:solidFill>
                <a:latin typeface="Verdana"/>
              </a:rPr>
              <a:t>Dep</a:t>
            </a:r>
            <a:r>
              <a:rPr b="1" lang="es-ES_tradnl" sz="1400" spc="-1" strike="noStrike">
                <a:solidFill>
                  <a:srgbClr val="003366"/>
                </a:solidFill>
                <a:latin typeface="Verdana"/>
              </a:rPr>
              <a:t>.</a:t>
            </a:r>
            <a:r>
              <a:rPr b="1" lang="es-ES" sz="1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es-ES_tradnl" sz="1400" spc="-1" strike="noStrike">
                <a:solidFill>
                  <a:srgbClr val="003366"/>
                </a:solidFill>
                <a:latin typeface="Verdana"/>
              </a:rPr>
              <a:t>Sistemas Informáticos y Program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66"/>
                </a:solidFill>
                <a:latin typeface="Verdana"/>
              </a:rPr>
              <a:t>Facultad</a:t>
            </a:r>
            <a:r>
              <a:rPr b="1" lang="es-ES" sz="1400" spc="-1" strike="noStrike">
                <a:solidFill>
                  <a:srgbClr val="003366"/>
                </a:solidFill>
                <a:latin typeface="Verdana"/>
              </a:rPr>
              <a:t> de Informát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66"/>
                </a:solidFill>
                <a:latin typeface="Verdana"/>
              </a:rPr>
              <a:t>Universidad Complutense de Madr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779400" y="1947600"/>
            <a:ext cx="7678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3366"/>
                </a:solidFill>
                <a:latin typeface="Verdana"/>
              </a:rPr>
              <a:t>INGENIAS Meta-model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7380360" y="692280"/>
            <a:ext cx="866880" cy="9522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1187280" y="5229360"/>
            <a:ext cx="72396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592920"/>
            <a:ext cx="833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Verdana"/>
              </a:rPr>
              <a:t>INGENIAS Meta-model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01280" y="1447560"/>
            <a:ext cx="8061480" cy="37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It defines the elements available for modelling in the INGENIAS Development Kit (IDK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urrent version of the meta-model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34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Package structure to organize its cont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34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Closer to MOF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It is not clear what means MOF-compliant today. XMI is not enoug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34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Highlights the importance of having diagrams as first class citize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">
            <a:hlinkClick r:id="rId1"/>
          </p:cNvPr>
          <p:cNvSpPr/>
          <p:nvPr/>
        </p:nvSpPr>
        <p:spPr>
          <a:xfrm>
            <a:off x="1270080" y="5524560"/>
            <a:ext cx="6842160" cy="501480"/>
          </a:xfrm>
          <a:custGeom>
            <a:avLst/>
            <a:gdLst>
              <a:gd name="textAreaLeft" fmla="*/ 32400 w 6842160"/>
              <a:gd name="textAreaRight" fmla="*/ 6809760 w 6842160"/>
              <a:gd name="textAreaTop" fmla="*/ 32400 h 501480"/>
              <a:gd name="textAreaBottom" fmla="*/ 469080 h 501480"/>
            </a:gdLst>
            <a:ahLst/>
            <a:rect l="textAreaLeft" t="textAreaTop" r="textAreaRight" b="textAreaBottom"/>
            <a:pathLst>
              <a:path w="294513" h="21600">
                <a:moveTo>
                  <a:pt x="0" y="0"/>
                </a:moveTo>
                <a:lnTo>
                  <a:pt x="294513" y="0"/>
                </a:lnTo>
                <a:lnTo>
                  <a:pt x="294513" y="21600"/>
                </a:lnTo>
                <a:lnTo>
                  <a:pt x="0" y="21600"/>
                </a:lnTo>
                <a:close/>
              </a:path>
              <a:path fill="lightenLess" w="294513" h="21600">
                <a:moveTo>
                  <a:pt x="0" y="0"/>
                </a:moveTo>
                <a:lnTo>
                  <a:pt x="294513" y="0"/>
                </a:lnTo>
                <a:lnTo>
                  <a:pt x="293113" y="1400"/>
                </a:lnTo>
                <a:lnTo>
                  <a:pt x="1400" y="1400"/>
                </a:lnTo>
                <a:close/>
              </a:path>
              <a:path fill="darken" w="294513" h="21600">
                <a:moveTo>
                  <a:pt x="294513" y="0"/>
                </a:moveTo>
                <a:lnTo>
                  <a:pt x="294513" y="21600"/>
                </a:lnTo>
                <a:lnTo>
                  <a:pt x="293113" y="20200"/>
                </a:lnTo>
                <a:lnTo>
                  <a:pt x="293113" y="1400"/>
                </a:lnTo>
                <a:close/>
              </a:path>
              <a:path fill="darkenLess" w="294513" h="21600">
                <a:moveTo>
                  <a:pt x="2945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113" y="20200"/>
                </a:lnTo>
                <a:close/>
              </a:path>
              <a:path fill="lighten" w="2945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513" h="21600">
                <a:moveTo>
                  <a:pt x="140250" y="3794"/>
                </a:moveTo>
                <a:lnTo>
                  <a:pt x="154263" y="10800"/>
                </a:lnTo>
                <a:lnTo>
                  <a:pt x="140250" y="17806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grasia.fdi.ucm.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D93A-2DCD-4598-9752-6BCDAD8E51B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rasia!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54120"/>
            <a:ext cx="83329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Verdana"/>
              </a:rPr>
              <a:t>Starting point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01280" y="1447920"/>
            <a:ext cx="8061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 meta-model is not suitable as programming language: it is semi-form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It can be made formal (non ambiguous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create a visual programming languag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will it be better with such language than with a conventional programming language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oftware engineering says that successul modelling languages are ambiguo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It can be applied in a wider range of domai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Analysts can model with more freedo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It requires an extra effort in explaining to readers what a concrete model is intented to me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grasia.fdi.ucm.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030F-E91E-47B9-83EB-4558D1B0BD9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rasia!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654120"/>
            <a:ext cx="83329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Verdana"/>
              </a:rPr>
              <a:t>Challenges in developing a meta-model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01280" y="1447920"/>
            <a:ext cx="8061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Testing the meta-model with different domai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oing it at high-level / platform independent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Useful for both researchers  and develop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grasia.fdi.ucm.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F4CA-6C6F-467D-875A-7CBE21C199E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rasia!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654120"/>
            <a:ext cx="83329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Verdana"/>
              </a:rPr>
              <a:t>Our approach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1280" y="1447920"/>
            <a:ext cx="8061480" cy="31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Testing, testing, tes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Keep the meta-model simple, with few high level concep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xtending the metamodel first with specialization and then with aggreg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rovide tools for using the meta-models: ID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ode generation facilities that implement the semantics that the developer requi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Tools that help to customize code generation facilit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/>
          <p:nvPr/>
        </p:nvSpPr>
        <p:spPr>
          <a:xfrm>
            <a:off x="3268800" y="5087880"/>
            <a:ext cx="2579400" cy="898560"/>
          </a:xfrm>
          <a:custGeom>
            <a:avLst/>
            <a:gdLst>
              <a:gd name="textAreaLeft" fmla="*/ 57960 w 2579400"/>
              <a:gd name="textAreaRight" fmla="*/ 2521440 w 2579400"/>
              <a:gd name="textAreaTop" fmla="*/ 57960 h 898560"/>
              <a:gd name="textAreaBottom" fmla="*/ 840600 h 898560"/>
            </a:gdLst>
            <a:ahLst/>
            <a:rect l="textAreaLeft" t="textAreaTop" r="textAreaRight" b="textAreaBottom"/>
            <a:pathLst>
              <a:path w="61989" h="21600">
                <a:moveTo>
                  <a:pt x="0" y="0"/>
                </a:moveTo>
                <a:lnTo>
                  <a:pt x="61989" y="0"/>
                </a:lnTo>
                <a:lnTo>
                  <a:pt x="61989" y="21600"/>
                </a:lnTo>
                <a:lnTo>
                  <a:pt x="0" y="21600"/>
                </a:lnTo>
                <a:close/>
              </a:path>
              <a:path fill="lightenLess" w="61989" h="21600">
                <a:moveTo>
                  <a:pt x="0" y="0"/>
                </a:moveTo>
                <a:lnTo>
                  <a:pt x="61989" y="0"/>
                </a:lnTo>
                <a:lnTo>
                  <a:pt x="60589" y="1400"/>
                </a:lnTo>
                <a:lnTo>
                  <a:pt x="1400" y="1400"/>
                </a:lnTo>
                <a:close/>
              </a:path>
              <a:path fill="darken" w="61989" h="21600">
                <a:moveTo>
                  <a:pt x="61989" y="0"/>
                </a:moveTo>
                <a:lnTo>
                  <a:pt x="61989" y="21600"/>
                </a:lnTo>
                <a:lnTo>
                  <a:pt x="60589" y="20200"/>
                </a:lnTo>
                <a:lnTo>
                  <a:pt x="60589" y="1400"/>
                </a:lnTo>
                <a:close/>
              </a:path>
              <a:path fill="darkenLess" w="61989" h="21600">
                <a:moveTo>
                  <a:pt x="61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589" y="20200"/>
                </a:lnTo>
                <a:close/>
              </a:path>
              <a:path fill="lighten" w="61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1989" h="21600">
                <a:moveTo>
                  <a:pt x="23988" y="3794"/>
                </a:moveTo>
                <a:lnTo>
                  <a:pt x="38001" y="10800"/>
                </a:lnTo>
                <a:lnTo>
                  <a:pt x="23988" y="17806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grasia.fdi.ucm.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7083-4A3B-491F-BE8B-C128D714E7C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rasia!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3:28:15Z</dcterms:created>
  <dc:creator>Juan Pavón Mestras</dc:creator>
  <dc:description/>
  <dc:language>en-US</dc:language>
  <cp:lastModifiedBy>JPM</cp:lastModifiedBy>
  <dcterms:modified xsi:type="dcterms:W3CDTF">2005-02-24T14:43:58Z</dcterms:modified>
  <cp:revision>20</cp:revision>
  <dc:subject/>
  <dc:title>Valladolid Meeting 18 dec. 2002</dc:title>
</cp:coreProperties>
</file>